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AFE9-3443-4749-B5C9-77B848F31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3BC0-3370-48FB-B957-6618A325D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64B8-3B7C-44C4-87C9-47545DEA0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696B-AB80-4D09-AD77-062DFDDCB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FFA2-D51F-4FC2-84AE-4FB88CCFE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2F81-6426-42A0-BE5F-C9D65D8BE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8057-76A7-4E61-9F00-700E6A113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D6E2-BC45-44D3-BB3B-A67C5596C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EB1B-0A09-49DA-9A12-C449B6319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9C47-BC82-467F-BF98-C466CAB78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3910-9B43-4765-92C8-5F7BBC04A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A934-D72B-4798-88E9-C9B18871D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80DD-79E4-4C5D-8F0F-7A6609A85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069F-3BF6-4E05-AC6E-73630277B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4500-1946-4379-8227-B5D7DC3DC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C13A-EB7F-4060-A345-43BB028CC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1287-5E30-406B-BB8C-56E2E5A41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9EFB-BE10-41CD-B568-9776BE06D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69F5-7EBC-46F8-AB3F-9F034AE40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F2C6-394D-4DFF-BC24-845DB6B7E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3098F-CE4E-44A7-8A9B-34D156E0F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97C95-D6D2-44E8-832C-793B1BC91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9237A-3786-43C1-BB5B-209B88C10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9CA90-273B-42FD-9F08-23AAC0E85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62811-50E2-4F35-8E1B-5F5324525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1202A-5DDC-4FBC-8F15-F1016B63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08DDD-F672-4BC9-BCC5-9711E49E7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E5845-1373-457A-8EE2-6EEA78F53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58A32-3939-421E-AD70-8DD6C6BA8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3E1B-DDF1-4E6E-99E6-8D21055E5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F88BC-345E-4740-94E0-2B617A6CC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4D82-E496-4E4A-8E4B-1BA85E5E3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64F7-0585-4FC3-8FEA-0C82714E7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Mommy</cp:lastModifiedBy>
  <dcterms:modified xsi:type="dcterms:W3CDTF">2010-02-11T14:28:25Z</dcterms:modified>
  <cp:revision>119</cp:revision>
  <dc:subject/>
  <dc:title>Wikispaces for Teachers A guide to using them in your classroom</dc:title>
</cp:coreProperties>
</file>